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30F-05F3-41AE-80F3-D1E56FB1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6F0-6AED-424B-A82C-4FDACE24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FBB-3074-47DD-B694-ED6C0731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CDF-C9F5-4D07-8B9D-5BFB3284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44D6-71D1-45A9-956C-CB81CA27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73A8-2A18-417B-AA0C-D2524440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E50F-752D-4879-A692-658CB264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3BA9-99CB-43EB-A6CE-CB5CBE9A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5FF5-4784-49FE-B1A7-338223C0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F72A-AD03-4DB2-A207-AA5242A7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C1FA-9A4B-4323-B942-B03456DD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590-FC71-457A-902A-E27F957B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35EC-8326-4EF5-B21B-FE53C1F8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E2A1-7926-4178-BFCA-E6F4C1EE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47A9-9754-4744-B5B5-EAA9ECBD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AE06-A80A-47CF-8B40-EE58AD38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5B4E-0F8F-4BBD-A195-88FF6EB7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58C-8EDE-4876-9A39-FADB0CE9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14C-8198-47F2-AA4F-AEC75FCA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4B4-DAE5-4364-B335-7E76A269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70A-B9FF-464C-96CB-CF91C303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FCA-A708-4D4B-A2DD-7BD51CBD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3AF-CC7F-4870-BD1C-90B82561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B3B-86F0-41B7-AF6E-1FE2A2BF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973A-C9DB-46AE-A31F-D59FF441F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F5BB-64FF-4831-9226-5B28FF9F5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eterogeneous Grouping and Gifted Student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Karen Shoyk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ducation 702.22- Fall 20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essor O’Connor-Petruso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of Content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-Statement of th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-Review of Related Litera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-Statement of the Hypothesi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 of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Various literature emphasis the impact of gifted or high ability students placement into heterogeneous groups/ and or classroom settings. This study will focus on, and address the following question; Do heterogeneous classrooms benefit gifted students achievemen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iew of Related Literatur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696080" cy="35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terature Review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Various literature emphasizes the implementation of instructional strategies that may be used to benefit the gifted population. These strategies includ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a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sto MT"/>
              </a:rPr>
              <a:t>ability grouping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 (Kulik, 1992 ; Tieso, 2003) b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sto MT"/>
              </a:rPr>
              <a:t>differentiation of instruction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 (Cutler,1996); c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sto MT"/>
              </a:rPr>
              <a:t>enrichment activities (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Cassady, Speirs Neumeister, Adams, Cross, Dixon &amp; Pierce, 2004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sto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terature Review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Gifted students placed in heterogeneous classrooms or groups will develop frustration and anxiety, and lower self esteem. ( Benson, 2002; Holloway, 2003; Rogers, 2002; Cramond, Benson,&amp; Martian, 200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Gifted students will not be given ample learning opportunities when placed in mixed ability settings due to the material and the pace of instruction.(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Lou, Abrami,Spence, Poulsen, Chambers,d’Apollonia,1996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Students of high ability, when placed in homogenous classrooms, will have deeper abstract conversations, work more collaboratively, and produce better quality work.(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Sheppard &amp; Kanevsky,1999; Fuchs, Fuchs, Hamlett &amp;  Karns, 1998;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Shields, 1996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terature Re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Gifted students benefit from being placed in mixed ability classrooms and their academic performance is not effected by it (Melser, 1999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Gifted students may be educated in mixed ability groups if teachers are properly trained (Knobel &amp; Shaughnessey, 2002; 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Cramond, Benson,&amp; Martian, 2002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; Davalos &amp; Griffin,1999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Gifted students may be served in heterogeneous classrooms if proper accommodations are made and differentiation of instruction occurs (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Tomlinson, 2001;Tieso, 2003)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Heterogeneous grouping accompanied by differentiated instruction and proper teacher training will academically benefit 15 gifted students in a class of 23 students in grade five at P.S. 153 Brooklyn, New York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8:30:56Z</dcterms:created>
  <dc:creator>User</dc:creator>
  <dc:description/>
  <cp:keywords/>
  <dc:language>en-US</dc:language>
  <cp:lastModifiedBy>User</cp:lastModifiedBy>
  <dcterms:modified xsi:type="dcterms:W3CDTF">2008-10-11T19:41:35Z</dcterms:modified>
  <cp:revision>9</cp:revision>
  <dc:subject/>
  <dc:title>Heterogeneous Grouping and Gifted Stud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651033</vt:lpwstr>
  </property>
</Properties>
</file>